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8F0-3919-4C42-88D0-CF4E643E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E0F-4466-4479-BAF5-F574C0C7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A14-D81B-441F-8D8E-26378196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B7E-2FA9-4819-85C7-7E4EF602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80305-2DBE-4B2E-9881-F8FF3E54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84CA4-B850-4505-8568-59056FD1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1333B-B327-48F6-A47A-7ED15545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546B3-B794-45A5-9CE5-0535B2CE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66693-FB24-44D0-B3F4-3FD1D075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3B590-6E70-4765-A210-BB36C39A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A77AA-7C0C-41A8-9CA0-CED12DAF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DA6-5B0D-41B2-85AD-47CF982D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69971-FD35-423F-A8C1-DAFFA015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DD73B-C099-414A-9AEB-E539295C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CFC64-C7FB-4724-9177-25F8A4AC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09666-C4E3-4A76-9D26-43AC62A1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7AB6F-F782-4E2F-8FD0-3AD549C5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C1B-B7B2-4029-9D1F-BE094060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20F-726E-44BD-869D-DEFE37F0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FB3-1195-450F-96E2-40A0E4A3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3D6-5C1F-448A-B92D-C74F4FFC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4DD-11CD-4939-83C2-C056AE86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F6E-8755-4A85-AB90-8C67D0E2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C89-221A-4273-882C-6ED50D8D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D47B-F945-47B8-96A8-E090D25AA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0220-FDBF-48B9-A230-A13ABEE2A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Y Interpretation of Trif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ny Faces of Abu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02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2:48:47Z</dcterms:created>
  <dc:creator>LILLYA GLENN</dc:creator>
  <dc:description/>
  <dc:language>en-US</dc:language>
  <cp:lastModifiedBy>LILLYA GLENN</cp:lastModifiedBy>
  <dcterms:modified xsi:type="dcterms:W3CDTF">2008-04-06T13:55:28Z</dcterms:modified>
  <cp:revision>5</cp:revision>
  <dc:subject/>
  <dc:title>Trifles Trailer</dc:title>
</cp:coreProperties>
</file>